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9BC4-8E17-4E1A-AF68-38BD7F2E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7308-68C2-45EE-B4D8-EA10D3AE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C7EA-BEED-427E-BEC9-1FAAE75E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E3B1-4D63-4FF2-A43D-E13E68FF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B7E-970C-494C-8FFF-150EAF6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6FD3-AD08-4968-96ED-EADEA787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85F-5039-4662-A35A-DD6C623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7D75-BB24-429D-B2FD-DF8D35A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8CE-5E32-4BDE-93F4-A0D8FC85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B385-B529-4F4F-93C5-73CE69B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AB4B-0011-4136-AF29-18553D0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8331-6C5E-4566-885F-4ECDABF5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A82F-AE2C-4DE0-B690-192C8F2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BD6-D245-4C83-B195-29076241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6CC-FE9C-49DD-8339-0E6116DC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76D-FCE7-468C-B746-B92B4451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398-6533-4CB8-A68C-A1A1C6A2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E7894-23F8-491C-995D-F0446DA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79B35-CC19-4FA0-B18B-D0C0AC2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F8C80-F757-4C24-8F73-BB05A8E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FA3DB-A748-4234-96D4-CC26A29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EE275-73C4-4838-B8BA-8EE81DD4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4CDF-D4D4-49AA-84EE-A64B3DF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900D4-4CE8-42A3-8946-02B9F77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F6DA2-D2B7-499F-86D9-1439C34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D3257-E15B-4FE2-86C1-951B55A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22526-9D34-4020-889E-35B0818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34B20-F365-4D2D-AC1A-77FA327B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6FC03-555A-4C10-B85F-1DF808AC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DFC65-592D-4034-A562-4CA9A3BD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7090D-4472-4016-918C-507A91A6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91019-D578-43E4-8A16-E51EE97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B1BBF-D50F-4E81-953C-CFD70A6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A753-CE97-49ED-822B-9DBE40AE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8F4C1-1E8C-43F7-8D09-4E6555D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9AEC3-34F4-48D0-A063-948E7B11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FF140-AC27-4A75-9454-664096D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34783-F374-49D8-A04B-F49DC259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7B6B7-9B3D-4ABD-B27B-EB8407E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24B6D-146D-4A4A-95AA-269B180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E4050-F4D7-48E9-9CF0-B8BEF3EA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A1549-3080-4EBE-AE30-E10F074B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B6648-4375-40EA-ACE7-327A54F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4F03F-D635-4AAF-8BCA-780A09E5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E704-5E09-4024-8731-DD302CAA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445AF-3228-4A97-9D1A-3D78C942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759BE-BF34-4C90-8A28-EFF87DD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C1368-AF10-491D-9176-EB1AAA3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EE859-1080-44DF-89F4-DD398229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28511-BF8D-4C81-ACF5-91B6199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9F70A-8EB1-4DCB-AF04-F319D88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C8AB0-38E9-457F-A039-2A6F490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71DDB-45B3-402D-9ABA-0DCE7AF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B25B3-F44E-430D-9D0D-A54BAF2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F7357-46AA-4873-BA24-1F97432A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3D02-0B27-4C4B-AE14-D5DD72C4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2C07B-D209-4782-ABE7-1EA1458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CD63D-198C-4502-B768-99EE460B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F05EA-86B6-4061-B2EE-C449BEA8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3F4BA-4807-49AC-A689-F02B3C31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607F1-FE64-4584-A955-0D76E0B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5BA62-2B3F-4EBE-871B-F8FE7028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F6FFD-B3E3-4F18-AC40-FF9805A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267A9-EABC-46BA-9060-C4B252B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08671-ED5B-453A-B779-FB39770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589E9-9F45-4BD5-B0D9-E16F299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F049-B0B2-4451-B969-F854E73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AA6A3-83EB-4A0E-80B1-15B49044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455C5-03D5-4477-AA77-4AB6D39F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C054E-455E-4BCF-817B-7FD141A8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634E-7F43-4B4A-892B-0791D1CD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0E99-D8D3-4121-AEA3-A1E92A5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ED0-8A1D-44E6-93B2-2D9F06C32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1887-FF33-4B62-8001-4E0E68344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F793-38BD-47F1-ACC7-93E0346BD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3BE-925C-47A0-83B5-7DB3D9A5D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450-36BB-4EE7-B547-8255A403B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5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45F5-DD10-4105-8FA5-54B07C741A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XI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территориальная ярмарка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бразовательных ресурсов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XI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территориальная ярмарк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образовательных ресурсов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ема выступления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сихолого-педагогическая помощь младшим школьникам по предупреждению и преодолению трудностей, возникающих в условиях ФГО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БОУ ООШ пос. Ровно-Владимиров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ь начальных классов    Кольниченко Г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редства и метод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8" name="Picture 7" descr="IMG_0860"/>
          <p:cNvPicPr/>
          <p:nvPr/>
        </p:nvPicPr>
        <p:blipFill>
          <a:blip r:embed="rId1"/>
          <a:stretch/>
        </p:blipFill>
        <p:spPr>
          <a:xfrm>
            <a:off x="685800" y="3276720"/>
            <a:ext cx="7975440" cy="3581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609480" y="175248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33520" y="13716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гровой метод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рттерапевтические метод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сихогимнаст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ематический план проблемных лекций  для родителей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600200"/>
          <a:ext cx="8229600" cy="4675320"/>
        </p:xfrm>
        <a:graphic>
          <a:graphicData uri="http://schemas.openxmlformats.org/drawingml/2006/table">
            <a:tbl>
              <a:tblPr/>
              <a:tblGrid>
                <a:gridCol w="838080"/>
                <a:gridCol w="73915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 проблемной ле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удности в обучении младших школьников, их причины и устра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моциональная поддержка детям с трудностями в обучен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пособы эффективного взаимодействия с деть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ощь детям в развитии познавательной активности и школьной мотив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Занятие № 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33520" y="1143000"/>
          <a:ext cx="8153280" cy="5300640"/>
        </p:xfrm>
        <a:graphic>
          <a:graphicData uri="http://schemas.openxmlformats.org/drawingml/2006/table">
            <a:tbl>
              <a:tblPr/>
              <a:tblGrid>
                <a:gridCol w="306360"/>
                <a:gridCol w="1141200"/>
                <a:gridCol w="1752840"/>
                <a:gridCol w="3581280"/>
                <a:gridCol w="1371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держ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дач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териа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 ми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гра «Отгада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итие произвольности речев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рточки с названиями предметов живот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ми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гра «Мух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итие концентрации вним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ст бумаги с клетками, фиш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итие мыш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гра «Назови слов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итие речи, активизация словарного зап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пражнение «Комплимент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ышение самооценки, создание положительного эмоционального ф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пражнение «Лицензия на приобретение знаний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итие познавательной актив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ст бумаги и ручка каждо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гра «Солнышко» (занятие №9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Задача: повышение самооценки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6" name="Picture 6" descr="IMG_0834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гра «Отгадай» (занятие №3)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ча: развитие произвольности речевого общения, способности действовать в соответствии с правилам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8" name="Picture 5" descr="IMG_0847"/>
          <p:cNvPicPr/>
          <p:nvPr/>
        </p:nvPicPr>
        <p:blipFill>
          <a:blip r:embed="rId1"/>
          <a:stretch/>
        </p:blipFill>
        <p:spPr>
          <a:xfrm>
            <a:off x="533520" y="160020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гра «Муха»  (занятие № 6)</a:t>
            </a:r>
            <a:br>
              <a:rPr sz="28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дача: развитие концентрации внимания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0" name="Picture 5" descr="IMG_0926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Упражнение «Волшебная котомка»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занятие №  6)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дача: развитие восприятия двигательных навыков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2" name="Picture 5" descr="IMG_0933"/>
          <p:cNvPicPr/>
          <p:nvPr/>
        </p:nvPicPr>
        <p:blipFill>
          <a:blip r:embed="rId1"/>
          <a:stretch/>
        </p:blipFill>
        <p:spPr>
          <a:xfrm>
            <a:off x="304920" y="160020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гра «Точки»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занятие №1)</a:t>
            </a:r>
            <a:br>
              <a:rPr sz="2400"/>
            </a:br>
            <a:br>
              <a:rPr sz="18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дача: развитие воображения, творческого мышления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4" name="Picture 5" descr="IMG_0950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Упражнение «Повторенье-мать ученья» 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(занятие 7)</a:t>
            </a:r>
            <a:br>
              <a:rPr sz="2000"/>
            </a:br>
            <a:br>
              <a:rPr sz="18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дача: умение обобщать, подводить итоги, рефлексия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6" name="Picture 7" descr="IMG_0960"/>
          <p:cNvPicPr/>
          <p:nvPr/>
        </p:nvPicPr>
        <p:blipFill>
          <a:blip r:embed="rId1"/>
          <a:stretch/>
        </p:blipFill>
        <p:spPr>
          <a:xfrm>
            <a:off x="457200" y="1523880"/>
            <a:ext cx="8458200" cy="495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Тематическое рисование (занятие № 12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дача: развитие сотрудничества, сплочения группы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8" name="Picture 5" descr="IMG_0912"/>
          <p:cNvPicPr/>
          <p:nvPr/>
        </p:nvPicPr>
        <p:blipFill>
          <a:blip r:embed="rId1"/>
          <a:stretch/>
        </p:blipFill>
        <p:spPr>
          <a:xfrm>
            <a:off x="533520" y="160020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рудности в обучении младших школьников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ропуск букв в письменных работ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допуск орфографических ошибо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невнимательность и рассеянность на урока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рудности при решении математических задач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рудности в пересказе текс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неусидчивость при выполнении задан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не понимают объяснения учителя с первого раз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стоянно переспрашиваю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правляются  с самостоятельными задани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А.Н. Ануфриева, С.Н. Костромин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c00"/>
                </a:solidFill>
                <a:latin typeface="Garamond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Диагностические методик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Методика определения уровня школьной мотивации (Автор Н.Г. Лусканова) 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Методика определения познавательной потребности детей «Дерево желаний» (Автор В.С. Юркевич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Групповой интеллектуальный тест (Автор Дж.Ванда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Методика ранжирования средовой адаптации  (дезадаптации) ребёнка (Автор Р.В. Овчаров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Причины трудностей в обучении детей младшего школьного возраста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307" name="Diagram 7"/>
          <p:cNvGrpSpPr/>
          <p:nvPr/>
        </p:nvGrpSpPr>
        <p:grpSpPr>
          <a:xfrm>
            <a:off x="1455840" y="1789200"/>
            <a:ext cx="6232320" cy="3319200"/>
            <a:chOff x="1455840" y="1789200"/>
            <a:chExt cx="6232320" cy="3319200"/>
          </a:xfrm>
        </p:grpSpPr>
        <p:sp>
          <p:nvSpPr>
            <p:cNvPr id="308" name="_s1028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4680">
              <a:solidFill>
                <a:srgbClr val="a886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_s1029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недостатки в познавательной деятельност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0" name="_s1030"/>
            <p:cNvSpPr/>
            <p:nvPr/>
          </p:nvSpPr>
          <p:spPr>
            <a:xfrm>
              <a:off x="4282920" y="3340080"/>
              <a:ext cx="1686240" cy="1685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1" name="_s1031"/>
            <p:cNvSpPr/>
            <p:nvPr/>
          </p:nvSpPr>
          <p:spPr>
            <a:xfrm>
              <a:off x="600228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учебная и социальная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дезадаптация ребёнка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_s1032"/>
            <p:cNvSpPr/>
            <p:nvPr/>
          </p:nvSpPr>
          <p:spPr>
            <a:xfrm>
              <a:off x="3173400" y="3338640"/>
              <a:ext cx="1685880" cy="16858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_s1033"/>
            <p:cNvSpPr/>
            <p:nvPr/>
          </p:nvSpPr>
          <p:spPr>
            <a:xfrm>
              <a:off x="145584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недостатки в развитии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отивационной сферы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«Коррекционная программа для младших школьников по предупреждению и преодолению         </a:t>
            </a:r>
            <a:br>
              <a:rPr sz="2800"/>
            </a:b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                  трудностей в обучени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Цель  программы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одоление школьной неуспеваем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средством развития учебно-познаватель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особностей, формирования учеб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тивации, познавательных потребностей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тимизации средовой адаптации младш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школьников, испытывающих трудности 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учен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чи     программы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Создать систему психолого-педагогической помощи младшим школьник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Создать специальные психолого-педагогические и социально-психологические условия для реализации програм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Формировать компетентность педагогов и родителей в вопросах преодоления и устранения причин, порождающих трудности у детей в процессе обучен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Принципы программ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Принцип развивающего обуч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Принцип учёта возрастных и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видуальных особенностей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Принцип опоры на внутренний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енциал ребё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Принцип систематичности и последова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труктура программ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Garamond"/>
              </a:rPr>
              <a:t>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Garamond"/>
              </a:rPr>
              <a:t>1 раздел: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 Информационно –теоретический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Психолого-просветительные мероприятия с родителями»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 4 встречи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Garamond"/>
              </a:rPr>
              <a:t>2 раздел: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 Коррекционно-развивающий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12 занятий с детьми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2" name="Picture 9" descr="ус"/>
          <p:cNvPicPr/>
          <p:nvPr/>
        </p:nvPicPr>
        <p:blipFill>
          <a:blip r:embed="rId1"/>
          <a:stretch/>
        </p:blipFill>
        <p:spPr>
          <a:xfrm>
            <a:off x="4876920" y="1600200"/>
            <a:ext cx="3635280" cy="2185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x93a53f73"/>
          <p:cNvPicPr/>
          <p:nvPr/>
        </p:nvPicPr>
        <p:blipFill>
          <a:blip r:embed="rId2"/>
          <a:stretch/>
        </p:blipFill>
        <p:spPr>
          <a:xfrm>
            <a:off x="914400" y="1600200"/>
            <a:ext cx="3092400" cy="21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адачи коррекционно-развивающих занятий с учащимися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Формирование школьной мотив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Формирование коммуникативных качеств и свойств лич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Развитие познавательных психически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Формирование группового спло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Офис</cp:lastModifiedBy>
  <dcterms:modified xsi:type="dcterms:W3CDTF">2013-08-15T05:50:4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